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15569"/>
        <c:axId val="87230258"/>
      </c:barChart>
      <c:catAx>
        <c:axId val="51115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0258"/>
        <c:crosses val="autoZero"/>
        <c:auto val="1"/>
        <c:lblAlgn val="ctr"/>
        <c:lblOffset val="100"/>
        <c:noMultiLvlLbl val="0"/>
      </c:catAx>
      <c:valAx>
        <c:axId val="87230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15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543-4E93-4269-837A-2614FC87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AC5-DF4A-45E1-AC67-9032549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550-4F26-4709-9278-3CA032FA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412-76DB-460C-91B6-76660894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BE5-AA39-4805-8DCB-D7FA9E0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CD0-95DD-421D-BD78-9DE29025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F86-587E-4489-8B4C-65076A32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1CB6-C315-41CE-BFB9-1CA1FE6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506-B5F2-4E56-BCB1-995251C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2DC-F193-49DF-AE18-32E2803E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B6E-9A59-4B87-8F05-76C1843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607-CEEB-42BB-9C9A-C2FB1C7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2AD3-7D89-4C24-AAB0-E230FF8201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