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502"/>
        <c:axId val="10908206"/>
      </c:barChart>
      <c:catAx>
        <c:axId val="800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8206"/>
        <c:crosses val="autoZero"/>
        <c:auto val="1"/>
        <c:lblAlgn val="ctr"/>
        <c:lblOffset val="100"/>
        <c:noMultiLvlLbl val="0"/>
      </c:catAx>
      <c:valAx>
        <c:axId val="10908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F6F-D244-4FCB-B22A-C5226D81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C788-C855-4914-95A2-B5424168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98C-8212-4CE2-AC84-A8CE71BA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1D3-6446-4C8B-9973-F504FB69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22D5-4497-4B04-B125-BF67F5E1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A0B-D6A2-411C-A895-D052E7F7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68D-8EF8-486C-80B4-A022B36B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1447-4B68-4429-9241-743A40E3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A13-6B20-4252-B012-8828523D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ACA-AFF0-463F-8B3A-9E904F9A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9B8-BBC1-4105-A28C-C600B2A8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5E5-06AB-4851-B862-B0B04976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6548E-311F-4135-B5E6-5BFAD75953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